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906-D658-4C80-B7A5-002396D6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EC6-FDC8-4802-B951-0D1F530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C7C-EABE-4A48-B36A-B05EB9CE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54D-8A8B-4934-98CB-148011F5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50C-1CEF-4427-94A1-C013F302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187-D6A4-4CD4-91BA-835606A5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9BD-8E9C-494C-B9FC-CD74A2BE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57F-3F92-4F56-B4D0-A24AC41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8C8-85E6-42EE-BA4B-94C81545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2FC-21CB-42C3-995B-19C03836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571-0655-47AB-B548-63342E2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98C-CBE8-42DE-9F78-E69BABB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18BC-64DC-49F3-8B0D-813558F0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hyperlink" Target="http://www.freeplaymusic.com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eb.mit.edu/invent/iow/fox.html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066680"/>
            <a:ext cx="5410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turally Colored Cotton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53704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ada Kornkras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15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9718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62920" y="3733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1820880" cy="144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5335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Sally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486400"/>
            <a:ext cx="5410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l Thang 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391520" y="16002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8756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ox"/>
          <p:cNvPicPr/>
          <p:nvPr/>
        </p:nvPicPr>
        <p:blipFill>
          <a:blip r:embed="rId2"/>
          <a:srcRect l="2730" t="2939" r="73640" b="2939"/>
          <a:stretch/>
        </p:blipFill>
        <p:spPr>
          <a:xfrm>
            <a:off x="5029200" y="228600"/>
            <a:ext cx="236232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88756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ox"/>
          <p:cNvPicPr/>
          <p:nvPr/>
        </p:nvPicPr>
        <p:blipFill>
          <a:blip r:embed="rId3"/>
          <a:srcRect l="79528" t="0" r="0" b="3079"/>
          <a:stretch/>
        </p:blipFill>
        <p:spPr>
          <a:xfrm>
            <a:off x="7467480" y="0"/>
            <a:ext cx="1676520" cy="2390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887560"/>
            <a:ext cx="914400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ox"/>
          <p:cNvPicPr/>
          <p:nvPr/>
        </p:nvPicPr>
        <p:blipFill>
          <a:blip r:embed="rId4"/>
          <a:srcRect l="39703" t="15500" r="34374" b="7103"/>
          <a:stretch/>
        </p:blipFill>
        <p:spPr>
          <a:xfrm>
            <a:off x="1600200" y="1219320"/>
            <a:ext cx="327672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61800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81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urally colored cot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/iow/fo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049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57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ly Fox invented naturally colored co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28600" y="990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229600" y="289548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Naturally colored co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colored cotton is more flame resistant then regular white, bleached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cottons eliminate dyeing and finishing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waste as much as bleached cotton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brown, but now can be found in red or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tton can be more difficult to spin then regular bleached cot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Sally F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y Fox began her life as an inventor in 1982 in Davis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y Fox receive a patent and 3 Plant Variety Protect Certificates for her brown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now grows red and green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invention is so popular it had made 2 companies ----Vreseis, Ltd. And Natural Cotton Col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made a unique set of yarn that can only be made from her naturally colored co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4:40Z</dcterms:created>
  <dc:creator>install</dc:creator>
  <dc:description/>
  <dc:language>en-US</dc:language>
  <cp:lastModifiedBy>install</cp:lastModifiedBy>
  <dcterms:modified xsi:type="dcterms:W3CDTF">2011-09-26T13:56:36Z</dcterms:modified>
  <cp:revision>12</cp:revision>
  <dc:subject/>
  <dc:title>Slide 1</dc:title>
</cp:coreProperties>
</file>